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77957-67FD-431D-8BE8-7EF0697231F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0C30A-DEC9-4925-A0A5-59E1EB35594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9B443-89F6-4E2B-9B52-B12F66EA8B5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85840" y="708120"/>
            <a:ext cx="4535640" cy="3402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41400" y="4322880"/>
            <a:ext cx="501984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ina nu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1DD9D-214A-43EC-967F-09A68E37E47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82DE6-5879-4B3E-94F6-416314741F5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62FEE-B458-4378-B8C0-1D97ED33993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5285D-F89B-4232-B4C5-7309F9F5ACF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85840" y="708120"/>
            <a:ext cx="4535640" cy="3402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41400" y="4322880"/>
            <a:ext cx="501984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ina nu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AF30D-2EF7-4B4C-BDD4-94F46D0C4C1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85840" y="708120"/>
            <a:ext cx="4535640" cy="3402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41400" y="4322880"/>
            <a:ext cx="501984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ina nu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2EDF2-93D7-4BF8-B082-F666308A982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85840" y="708120"/>
            <a:ext cx="4535640" cy="3402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41400" y="4322880"/>
            <a:ext cx="501984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ina nu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CD087-7177-4E30-804B-6ED0DC8223E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85840" y="708120"/>
            <a:ext cx="4535640" cy="3402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41400" y="4322880"/>
            <a:ext cx="501984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ina nu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6B0F6-C045-4215-8CF2-E7648173193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85840" y="708120"/>
            <a:ext cx="4535640" cy="3402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41400" y="4322880"/>
            <a:ext cx="501984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ina nu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D54E5-D4C3-4D57-9D1D-19603F467A6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85840" y="708120"/>
            <a:ext cx="4535640" cy="3402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41400" y="4322880"/>
            <a:ext cx="501984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ina nu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A411-12C6-4193-83D4-C520D4537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B857-2B6B-46DF-AAAB-C056A2A01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6C42-2E69-422D-8BB6-181A77BF6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C8F6-4B36-473C-A922-52F237698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1004-2CA8-40F2-82A4-C1404AC44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8E13-2B1A-45FD-9031-225F85633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9858-3E0E-4CAB-A204-546138C69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F61D-5E2C-4BC5-9607-B02ECB68D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518C-0FBB-4E08-918E-72EFC4C78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BBE8-C249-46BE-8A86-59486E48C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7E54-72BF-4351-BE74-DA26AB487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BACD-200A-42CC-AD82-0372B72ED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577A2-38AA-4356-B187-FD6A15C1D4F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424720" cy="1295640"/>
          </a:xfrm>
          <a:prstGeom prst="rect">
            <a:avLst/>
          </a:prstGeom>
          <a:ln w="0">
            <a:noFill/>
          </a:ln>
        </p:spPr>
      </p:pic>
      <p:sp>
        <p:nvSpPr>
          <p:cNvPr id="49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826920" y="2781360"/>
            <a:ext cx="7777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Medidas Pro-Exportadoras para hacer frente a la crisis exter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2492280"/>
            <a:ext cx="749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26920" y="4508640"/>
            <a:ext cx="749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79640" y="5084640"/>
            <a:ext cx="338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87640" y="530064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Lima, Enero de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300" spc="-1" strike="noStrike">
                <a:solidFill>
                  <a:srgbClr val="000000"/>
                </a:solidFill>
                <a:latin typeface="Arial"/>
              </a:rPr>
              <a:t>Ampliación y fortalecimiento de las Oficinas Comerciales en el exterior, como herramienta de apoyo promocional y de inteligencia comercial (incremento de presupuesto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300" spc="-1" strike="noStrike">
                <a:solidFill>
                  <a:srgbClr val="000000"/>
                </a:solidFill>
                <a:latin typeface="Arial"/>
              </a:rPr>
              <a:t>Misiones comerciales a nuevos mercados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300" spc="-1" strike="noStrike">
                <a:solidFill>
                  <a:srgbClr val="000000"/>
                </a:solidFill>
                <a:latin typeface="Arial"/>
              </a:rPr>
              <a:t>Realizar eventos en embajadas, similar a Perú Mucho Gusto, presentando imagen paí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300" spc="-1" strike="noStrike">
                <a:solidFill>
                  <a:srgbClr val="000000"/>
                </a:solidFill>
                <a:latin typeface="Arial"/>
              </a:rPr>
              <a:t>Lanzar nuevas Representaciones en Destino de PROMPERU (esquema de Antenas comerciales)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300" spc="-1" strike="noStrike">
                <a:solidFill>
                  <a:srgbClr val="000000"/>
                </a:solidFill>
                <a:latin typeface="Arial"/>
              </a:rPr>
              <a:t>Elaborar información y material de promoción comercial (catálogos, CDs, Brochures, muestras, etc) para su envío al exterio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214200" y="336600"/>
            <a:ext cx="86439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Verdana"/>
              </a:rPr>
              <a:t>Desarrollo de Merc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424720" cy="1295640"/>
          </a:xfrm>
          <a:prstGeom prst="rect">
            <a:avLst/>
          </a:prstGeom>
          <a:ln w="0">
            <a:noFill/>
          </a:ln>
        </p:spPr>
      </p:pic>
      <p:sp>
        <p:nvSpPr>
          <p:cNvPr id="103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826920" y="2781360"/>
            <a:ext cx="7777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GRA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26920" y="2492280"/>
            <a:ext cx="749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26920" y="4508640"/>
            <a:ext cx="749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79640" y="5084640"/>
            <a:ext cx="338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987640" y="530064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Lima, Enero de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287280" y="336600"/>
            <a:ext cx="817236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tecede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00200"/>
            <a:ext cx="8229600" cy="41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uerte desaceleración de la economía, de un crecimiento promedio de 5% entre el 2005 y 2008, a un 0.9% estimado en el 200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Disminución del intercambio comercial y un mayor riesgo de proteccionismo en el mun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Reducción del flujo de capitales a países en desarrollo, conllevando a menores invers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Quiebra de importantes bancos y aseguradoras, así como fuertes caídas en la bolsa de val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287280" y="336600"/>
            <a:ext cx="817236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Verdana"/>
              </a:rPr>
              <a:t>Plan Anti-Cri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600200"/>
            <a:ext cx="8229600" cy="41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gobierno a través del MINCETUR, en coordinación con otras instituciones públicas, viene desarrollando medidas para permitir que el sector exportador mantenga su dinamismo a pesar de la crisis económica internaci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tas medidas se encuentran centradas en diversos aspectos tales como  la Facilitación de Comerco y el Desarrollo de nuevos merc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214200" y="336600"/>
            <a:ext cx="86439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Facilitación Comer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Medidas Financi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odificación del Programa SEPYMEX - Seguro de Crédito a la Exportació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Eliminación del límite máximo de exportaciones por deu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Ampliación de la cobertura máxima por deudor hasta por USD 3 M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Reducción del límite mínimo de la Línea Anual de Cobertura contratada con los bancos hasta por USD 4 M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2400" spc="-1" strike="noStrike">
                <a:solidFill>
                  <a:srgbClr val="000000"/>
                </a:solidFill>
                <a:latin typeface="Arial"/>
              </a:rPr>
              <a:t>Situación Actual: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Las modificaciones ya han sido implementadas (RM N° 048-2009-EF/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214200" y="336600"/>
            <a:ext cx="86439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Facilitación Comer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Medidas Financi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reación del Fondo de Garantía Empresarial (FOG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ondo por S/.300 millones para garantizar el 50% de financiamientos de Capital de Trabajo y Activo Fi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Puede ser empleado no sólo para operaciones de comercio exterior sino para operaciones loc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La operativa es similar al SEPYM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Situación Actua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Se presentó Decreto de Urgencia, pendiente de aprobación por parte del MEF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214200" y="336600"/>
            <a:ext cx="86439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Facilitación Comer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Medidas Financi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guro de Crédito Post Embarq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Programa complementario al SEPYMEX ya que coberturaría los créditos post embarque, lo cual ha sido solicitado por los bancos para que puedan ofrecer un mayor número de créditos a la expor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Coberturaría riesgo comercial y político ( facilitaría exportaciones a países como Venezuela y del medio orien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Tendría condiciones similares al SEPYM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2400" spc="-1" strike="noStrike">
                <a:solidFill>
                  <a:srgbClr val="000000"/>
                </a:solidFill>
                <a:latin typeface="Arial"/>
              </a:rPr>
              <a:t>Situación actual: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Se concluyó con el estudio para luego proceder con la elaboración de la nor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214200" y="336600"/>
            <a:ext cx="86439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Facilitación Comer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Medidas Financi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Desarrollo de una Rueda de Bolsa para la Negociación de Futuros de Moneda Extranj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Permitirá acceder a instrumentos que mitigan el riesgo de las variaciones en el Tipo de Camb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Se negociarían Futuros de Tipo de Cambio, los cuales son similares a los Forward pero son productos estandariz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Requiere de la participación del sector privado para su implementa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2400" spc="-1" strike="noStrike">
                <a:solidFill>
                  <a:srgbClr val="000000"/>
                </a:solidFill>
                <a:latin typeface="Arial"/>
              </a:rPr>
              <a:t>Situación actual: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Se concluyó con el estudio para luego proceder con la elaboración de la nor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mplementación del carnet 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Documento internacional que facilita los trámites de admisión temporal (ideal para empresas que participan en ferias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300" spc="-1" strike="noStrike">
                <a:solidFill>
                  <a:srgbClr val="000000"/>
                </a:solidFill>
                <a:latin typeface="Arial"/>
              </a:rPr>
              <a:t>Más de 60 países se encuentran afiliados a este sistem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300" spc="-1" strike="noStrike">
                <a:solidFill>
                  <a:srgbClr val="000000"/>
                </a:solidFill>
                <a:latin typeface="Arial"/>
              </a:rPr>
              <a:t>Requiere de la participación del sector privado para su implementación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300" spc="-1" strike="noStrike">
                <a:solidFill>
                  <a:srgbClr val="000000"/>
                </a:solidFill>
                <a:latin typeface="Arial"/>
              </a:rPr>
              <a:t>Situación Actual: </a:t>
            </a: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Propuesta ha sido presentada al MEF para la emisión de un Decreto Supremo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214200" y="336600"/>
            <a:ext cx="86439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Facilitación Comer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Medidas Aduan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lementación de la Ventanilla Única de Comercio Exterio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Plataforma informática que servirá para la interconexión entre 8 instituciones encargadas de la emisión de permisos para la exportación / importación de mercancías y los exportadores e importador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300" spc="-1" strike="noStrike">
                <a:solidFill>
                  <a:srgbClr val="000000"/>
                </a:solidFill>
                <a:latin typeface="Arial"/>
              </a:rPr>
              <a:t>Situación Actual</a:t>
            </a: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PE" sz="2300" spc="-1" strike="noStrike">
                <a:solidFill>
                  <a:srgbClr val="000000"/>
                </a:solidFill>
                <a:latin typeface="Arial"/>
              </a:rPr>
              <a:t>Actualmente se encuentra en la etapa de construcción de la plataforma tecnológica del componente de mercancías restringidas y se está diseñando el modelo general del componente portuario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214200" y="336600"/>
            <a:ext cx="86439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Facilitación Comer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Medidas Aduan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20:40:53Z</dcterms:created>
  <dc:creator>pmonzon</dc:creator>
  <dc:description/>
  <dc:language>en-US</dc:language>
  <cp:lastModifiedBy>METALHEAD</cp:lastModifiedBy>
  <dcterms:modified xsi:type="dcterms:W3CDTF">2009-01-27T00:04:24Z</dcterms:modified>
  <cp:revision>282</cp:revision>
  <dc:subject/>
  <dc:title>Facilitación &amp; Logística</dc:title>
</cp:coreProperties>
</file>